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F3F-3757-4F99-B94B-0D83CDB3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FFC-4C6C-4A8E-A654-AFDD2783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563-4A29-4134-AF1B-AA7C2ACB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96B6-0914-4062-AD78-3D92F560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F53B-B511-477F-A8F8-BA258D39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EE9D-E28E-441C-80EF-57F1AC54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56A3-E953-4909-98B4-DDBB67E9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186E-AE9C-4A88-A938-E6576A90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0F41-0FFB-42A2-8120-5DB93359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D5D2-88B2-4C2C-9C56-F1F900FE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6A24-4698-495B-B795-5FBF2BE7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4A1-0232-4725-BA7A-039AA46C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6D73-D5F1-4638-B177-EE86EC96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8644-2F7D-4D5B-9B79-805EDE6B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854D-DA61-4052-9251-DCCC0951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D66A-9A22-4DA2-B62C-81354DF9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2822-B0C4-4007-8044-75C2294C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E7C0-585B-4C56-97D8-21132396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C65-A70B-4D49-992D-695D47AA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3AE-A719-441B-A75A-66094047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7A0-756A-4675-B143-9D6A6760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937-A387-419F-8D7E-22C4259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964-A6E8-4355-8BC7-2B14FAAA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F76-4F79-4826-A5CB-816691EA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C0F5-9B82-4F6A-B82A-F7907FE06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5EB1-E77B-42AE-B82A-D7A54DE67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r, We Would See Jes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9, Lesson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36 - 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 1:21 – 2: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rom Last Less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of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ning Min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an Min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erna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ostles Cal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ter, Andrew, James, and John –to be fishers of 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ents Early In Jesus’ Minist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wer of the Savior – Mk.1:21-3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 over the demonic world – 1:21-2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rment of the possessed man 1:21-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cknowledgement by the demon -1: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mmanding power of Jesus -25-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mazement of the crowd – 27-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 over the fever (Peter’s mother-in-law is healed) – 1:29-3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70820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981080" y="762120"/>
            <a:ext cx="480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rea of Galil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esus Tours Galile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aching and Healing – Mk.1:35-3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ynagogues were open to Je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r, His critics will become more v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 healings will be criticized as “work” on the Sabbath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 miracles will be explained as Satanic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esus Heals a Lep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itiful man kneels to Jesus – Mk. 1:40-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sus is moved with compa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pediency of Jesus’ command for the healed man not to tell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ed to teach the soul is greater than the need to heal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ed to avoid being a side-sh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ed for priva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ed for room to be alone with His disciples and with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wer over Par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ing a paralytic in Capernaum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k.2:1-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Jesus announce a man’s forgiveness of si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awed reasoning of the Pharis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of of Jesus’ right to exercise the divine position of forgiveness was in the miracle of healing the 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all of Matthew (Lev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blican (tax collector) collected tribute money for the Roma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despised occupation for J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thew is called to work for Jesus –Mk.2:13-17; Matt.9:9-13; Lk.5:27-3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thew holds a feast and invites Jesus and some public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sus sees it as an opportunity to influence the salvation of sin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harisees thought Jesus should not have any associations with publicans and sin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Jesus participating in sin and condoning it? No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Matthew holding a “feast”, or a “drinking party”? – A feas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criticism was that Jesus was eating with publicans and sin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it was not the act itself (eating) that was questionable to the Pharis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an issue of WHOM Jesus was eating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Jesus should never eat with sinners, would He have been able to eat with the Pharise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nly real problem was in the lack of mercy in the heart of the Pharis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8:03:42Z</dcterms:created>
  <dc:creator>Terry W. Benton</dc:creator>
  <dc:description/>
  <dc:language>en-US</dc:language>
  <cp:lastModifiedBy>Frank D Vines</cp:lastModifiedBy>
  <dcterms:modified xsi:type="dcterms:W3CDTF">2006-05-03T16:41:20Z</dcterms:modified>
  <cp:revision>4</cp:revision>
  <dc:subject/>
  <dc:title>Sir, We Would See Jesus</dc:title>
</cp:coreProperties>
</file>